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2E6-9F33-4264-8188-D3DF38BD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AC4-E630-4FF4-BB6C-F5ACB4D7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709-43F2-4856-8371-3589332E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E92-0F1F-4DE8-92D8-B359333A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1E7-A5E0-4EC4-88CC-84E2904B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765E-E5AC-4C68-B27F-FE2E5E8A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807-AE53-4E8A-B25C-174A3A54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FC2-EDBF-48F9-A7E7-010F051A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1A0-D504-4D3C-B516-CD8817FE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032-F2E8-434C-A29A-07308BBD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D0D-14AC-4A3B-A0B9-0BB0E292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07F-16F0-4A18-81B5-97A2BC5A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DFBE-8AFA-43CE-98DF-2F1D8C0C494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此文件已经设置了账户权限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用当前软件版本无法检测您的权限状态。请安装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最新版本。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WPS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版本下载地址：</a:t>
            </a:r>
            <a:r>
              <a:rPr b="0" lang="zh-CN" sz="4000" spc="-1" strike="noStrike">
                <a:solidFill>
                  <a:srgbClr val="ff0000"/>
                </a:solidFill>
                <a:latin typeface="Calibri Light"/>
              </a:rPr>
              <a:t>http://www.wps.cn/product/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4T13:02:08Z</dcterms:created>
  <dc:creator>fanweifeng</dc:creator>
  <dc:description/>
  <dc:language>en-US</dc:language>
  <cp:lastModifiedBy>ttt</cp:lastModifiedBy>
  <dcterms:modified xsi:type="dcterms:W3CDTF">2016-04-27T12:19:45Z</dcterms:modified>
  <cp:revision>2</cp:revision>
  <dc:subject/>
  <dc:title>该文件是WPS加密文件，请使用WPS客户端打开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13</vt:lpwstr>
  </property>
</Properties>
</file>